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903-1E5E-4804-B138-80831C36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23A-C91D-422B-B991-D591479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48E-B15E-41AE-A9AC-AD122F6A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513-E540-46FF-8F52-31015B8D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E7A-EA08-402E-B5EC-6D27868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74C-BBD3-4644-B6DC-E7C8EA2C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1D5-D2C2-46C2-8DB9-6E783F3B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C61-D884-4914-99E9-95432956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784-8B74-4709-96F7-67FC2CC0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C60-6115-4725-BB35-6F0EB47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6F1-9331-4205-B6BD-3500330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868-B086-4EE4-8BE3-690EF02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A36E-2F52-4CAD-8D3D-98A21F05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e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Mar. 19 &amp; 20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uided Reading  Ch. 9 Sect. 1 (front &amp; 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1"/>
          <p:cNvSpPr/>
          <p:nvPr/>
        </p:nvSpPr>
        <p:spPr>
          <a:xfrm>
            <a:off x="0" y="1143000"/>
            <a:ext cx="914400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Focus 3-19 &amp; 20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is  Italy similar to Greece?  (Name at least tw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Large Greece Map"/>
          <p:cNvPicPr/>
          <p:nvPr/>
        </p:nvPicPr>
        <p:blipFill>
          <a:blip r:embed="rId1"/>
          <a:stretch/>
        </p:blipFill>
        <p:spPr>
          <a:xfrm>
            <a:off x="4572000" y="2028960"/>
            <a:ext cx="4572000" cy="4829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3657600" y="2057400"/>
            <a:ext cx="990720" cy="609480"/>
          </a:xfrm>
          <a:prstGeom prst="rect">
            <a:avLst/>
          </a:prstGeom>
          <a:solidFill>
            <a:srgbClr val="a5e2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www.worldatlas.com/webimage/countrys/europe/lgcolor/itcolor.gif"/>
          <p:cNvPicPr/>
          <p:nvPr/>
        </p:nvPicPr>
        <p:blipFill>
          <a:blip r:embed="rId2"/>
          <a:stretch/>
        </p:blipFill>
        <p:spPr>
          <a:xfrm>
            <a:off x="0" y="1960560"/>
            <a:ext cx="4572000" cy="4897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soldiers_right"/>
          <p:cNvPicPr/>
          <p:nvPr/>
        </p:nvPicPr>
        <p:blipFill>
          <a:blip r:embed="rId3"/>
          <a:srcRect l="9421" t="0" r="52943" b="0"/>
          <a:stretch/>
        </p:blipFill>
        <p:spPr>
          <a:xfrm>
            <a:off x="4267080" y="1981080"/>
            <a:ext cx="609840" cy="1791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3886200" y="609480"/>
            <a:ext cx="373392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hilly/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narrow penins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close to sea—sea faring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center of Mediterranean S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Difference---Italy had more fertile land than Gre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5486400" y="0"/>
            <a:ext cx="3657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Open up your Greece Voc. P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Roman Empire Map"/>
          <p:cNvPicPr/>
          <p:nvPr/>
        </p:nvPicPr>
        <p:blipFill>
          <a:blip r:embed="rId1"/>
          <a:srcRect l="0" t="-2211" r="0" b="-993"/>
          <a:stretch/>
        </p:blipFill>
        <p:spPr>
          <a:xfrm>
            <a:off x="0" y="-15228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Roman Empire Map"/>
          <p:cNvPicPr/>
          <p:nvPr/>
        </p:nvPicPr>
        <p:blipFill>
          <a:blip r:embed="rId1"/>
          <a:srcRect l="0" t="18487" r="0" b="5976"/>
          <a:stretch/>
        </p:blipFill>
        <p:spPr>
          <a:xfrm>
            <a:off x="228600" y="0"/>
            <a:ext cx="8534520" cy="335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greece2"/>
          <p:cNvPicPr/>
          <p:nvPr/>
        </p:nvPicPr>
        <p:blipFill>
          <a:blip r:embed="rId2"/>
          <a:srcRect l="0" t="31798" r="10833" b="8374"/>
          <a:stretch/>
        </p:blipFill>
        <p:spPr>
          <a:xfrm>
            <a:off x="380880" y="4133880"/>
            <a:ext cx="815364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514600" y="31240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 A.D. 4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3352680"/>
            <a:ext cx="962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ruled first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Which empire expanded farther ea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empire controlled the largest area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Which empire expanded farther wes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9907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838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847800" y="51055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7:11:58Z</dcterms:created>
  <dc:creator>Selena Ramsey</dc:creator>
  <dc:description/>
  <dc:language>en-US</dc:language>
  <cp:lastModifiedBy>poweruser</cp:lastModifiedBy>
  <dcterms:modified xsi:type="dcterms:W3CDTF">2012-03-20T17:04:34Z</dcterms:modified>
  <cp:revision>35</cp:revision>
  <dc:subject/>
  <dc:title>Slide 1</dc:title>
</cp:coreProperties>
</file>